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0C99-0057-4397-82B8-2FC54A68A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CA51-DA77-4214-8FBF-73888D93130E}" type="slidenum">
              <a:rPr b="0" lang="en-US" sz="1200" spc="-1" strike="noStrike">
                <a:solidFill>
                  <a:srgbClr val="000000"/>
                </a:solidFill>
                <a:latin typeface="Baskerville Old Fa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B4A8-FB00-4217-A277-3E4F5676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2D40-FFC4-4578-A9CC-9C048B21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AEC6-9292-4A85-A802-2A636F61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D477-BA5E-43E4-966A-B692F91D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9205-20C4-4172-81C8-675FD069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F44C-B98E-4C0A-8029-E81B6268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5186-8096-45C6-886B-1FF8C860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584F-A194-4C68-9710-ECB2D5A0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CD5A-7E04-4CF8-8F4E-C85655EA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9B2C-193F-46CD-955C-B5ECF4B0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311E-435E-4D1D-B7DE-39554BD6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4FD7-BA92-48CB-8347-C124126C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DE1B-2E61-4E1F-8AA7-9554D37D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5DD0-7926-47ED-8905-74265BB2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C51A-F880-466A-9BC4-928CF88E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98BF-A5A9-4D04-A945-312007F8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08A1-8DA8-4BE4-9A82-6960A8AA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00DE-1A92-42BE-9D9C-524FEB27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37A-11E9-4F49-B7D2-A1ADE4CC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0E81-A7CD-4377-98E8-D007FB01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F1D-9C44-49C8-86B9-5273161D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CA9-2FB3-417A-846F-C5C5CFC0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ABA-DE02-4EE6-AA07-FACD61D3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D025-EC7E-4F9F-BE85-D96E71DF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9C21-5261-442F-BFEC-BE591F5F3D0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DBD8-6729-4156-BA32-FB740EBAE31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APTER 5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entury Gothic"/>
              </a:rPr>
              <a:t>Electrons in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Electron Configuration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ickel: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d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4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p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p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1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Development of Atomic Model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right line spectra: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when connected to an energy source, gases emit distinct lines of color which can be used to identif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ydrogen: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always had the same 4 colors at the same 4 frequencies – electrons can only exist at certain energy lev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Development of Atomic Model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n “excited”, electrons absorb energy and “jump” to a higher energy level (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quantum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xcited atoms are unstable and lose energy only in certain am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ight waves of distinct frequencies are emitted when electrons return to their “normal”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Properties of Wave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aves possess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nergy is directly proportional to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=h</a:t>
            </a:r>
            <a:r>
              <a:rPr b="0" lang="el-GR" sz="2400" spc="-1" strike="noStrike">
                <a:solidFill>
                  <a:srgbClr val="000000"/>
                </a:solidFill>
                <a:latin typeface="Century Gothic"/>
              </a:rPr>
              <a:t>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nergy in joules=(6.63 x 1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entury Gothic"/>
              </a:rPr>
              <a:t>-34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J*s)x(frequency in 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equency and wavelength are indirect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=</a:t>
            </a:r>
            <a:r>
              <a:rPr b="0" lang="el-GR" sz="2400" spc="-1" strike="noStrike">
                <a:solidFill>
                  <a:srgbClr val="000000"/>
                </a:solidFill>
                <a:latin typeface="Century Gothic"/>
              </a:rPr>
              <a:t>λ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3.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entury Gothic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m/s=(wavelength in m)x(frequency in 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Determining Properties of Wave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wave has a frequency of 5.0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-2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z, what energy does it poss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a wave has a 3.4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m wavelength, what is its frequ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is the frequency of a wave with 2.93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-1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J of ener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is the energy possessed by a wave with a wavelength of 0.025 m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779040" y="2223360"/>
            <a:ext cx="7585920" cy="128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hocolateBox"/>
              </a:rPr>
              <a:t>CHAPTER 6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mical Period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Development of the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cientists needed a way to organize and refer to the growing number of known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tegorize the elements according to similarities in their physical and chemical 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lationship between atomic structure and properties of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Development of the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ndeleev listed the elements in vertical columns in order of increasing 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ular recurrence of physical and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ank spaces left where unknown elements belonged, but able to predict their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Development of the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eley determined atomic number of the atom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ranged the elements by order of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moseley"/>
          <p:cNvPicPr/>
          <p:nvPr/>
        </p:nvPicPr>
        <p:blipFill>
          <a:blip r:embed="rId1"/>
          <a:stretch/>
        </p:blipFill>
        <p:spPr>
          <a:xfrm>
            <a:off x="5410080" y="1981080"/>
            <a:ext cx="2935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Modern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14040" y="2514240"/>
            <a:ext cx="773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horizontal rows of the periodic table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erio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organized by increasing atomic nu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ertical columns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roup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families (organized by chemical proper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eriodic La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when the elements are arranged in order of increasing atomic number, there is a periodic pattern in their physical and chemica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Early Atomic Models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5" name="Picture 13" descr="rutherford"/>
          <p:cNvPicPr/>
          <p:nvPr/>
        </p:nvPicPr>
        <p:blipFill>
          <a:blip r:embed="rId1"/>
          <a:stretch/>
        </p:blipFill>
        <p:spPr>
          <a:xfrm>
            <a:off x="1447920" y="2666880"/>
            <a:ext cx="1828800" cy="1792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http://upload.wikimedia.org/wikipedia/commons/thumb/f/ff/Plum_pudding_atom.svg/220px-Plum_pudding_atom.svg.png"/>
          <p:cNvPicPr/>
          <p:nvPr/>
        </p:nvPicPr>
        <p:blipFill>
          <a:blip r:embed="rId2"/>
          <a:stretch/>
        </p:blipFill>
        <p:spPr>
          <a:xfrm>
            <a:off x="3581280" y="419112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http://2011period6group4.wikispaces.com/file/view/Dalton's_Model.jpg/168477035/Dalton's_Model.jpg"/>
          <p:cNvPicPr/>
          <p:nvPr/>
        </p:nvPicPr>
        <p:blipFill>
          <a:blip r:embed="rId3"/>
          <a:stretch/>
        </p:blipFill>
        <p:spPr>
          <a:xfrm>
            <a:off x="6048360" y="2438280"/>
            <a:ext cx="26290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 plays the greatest part in determining the physical and chemical propertie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can be classified into four different categories based on their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440" y="2819520"/>
            <a:ext cx="781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noble gas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re elements in which the outermost s and p sublevels are filled (group 0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alled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inert gas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because they do not partake in chemical rea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Valenc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:  outermost s and p orbi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Octe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:  8 electrons in valence she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presentative el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elements whose outermost s or p sublevels are only partially filled (group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Alkali meta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group 1A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Alkaline earth meta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groups 2A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Haloge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nonmetallic elements of group 7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number = number of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ransition 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elements whose outermost s sublevel and the nearby d sublevel contain electrons (group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nner transition 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elements whose outermost s sublevel and the nearby f sublevel contain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groups 1A and 2A and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groups 3A, 4A, 5A, 6A, 7A, and 0 except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transition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inner transition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iod numb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rresponds to the principal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Atomic Siz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adius of atoms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tomic rad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size increases as you move down a group of the periodic table and decreases as you move form left to right across a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hielding eff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se electrons on the nucleus is constant within a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Ionization Energ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energy that is required to overcome the attraction of the nuclear charge and remove an electron to create a positive atom is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rst ionization energy decreases as you move down a group of the periodic table and increases as you move form left to right across a peri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Ionic Siz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c radi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size of an ion compared to same neutral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positive ions) are smaller because of the reduced energy level with the same number of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n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egative ions) are larger because of a reduced effective nuclear charge on outer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Electronegativ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egativ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an element is the ability of an atom to attract electrons within a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egativity increases as you go across a period form left to right and decreases as you move down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The Bohr Atom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oh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lanetary” model of the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lectrons in a fixed path around the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ohr’s model based on his work with hyd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nergy level: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fixed energy level of an elec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Quantum: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mount of energy required to move an electron from one energy level to the next higher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http://www.upscale.utoronto.ca/PVB/Harrison/BohrModel/planet.gif"/>
          <p:cNvPicPr/>
          <p:nvPr/>
        </p:nvPicPr>
        <p:blipFill>
          <a:blip r:embed="rId1"/>
          <a:stretch/>
        </p:blipFill>
        <p:spPr>
          <a:xfrm>
            <a:off x="6019920" y="243828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Quantum Mechanical Model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Quantum mechanical model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mes from the mathematical solution to the Schrödinger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es not define exact path an electron takes around the nucleus, but does restrict energy of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stimates probability of finding an electron in a certain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cdn.dipity.com/uploads/events/ddf5c2c3303e09ba58c490780083c18f_1M.png"/>
          <p:cNvPicPr/>
          <p:nvPr/>
        </p:nvPicPr>
        <p:blipFill>
          <a:blip r:embed="rId1"/>
          <a:stretch/>
        </p:blipFill>
        <p:spPr>
          <a:xfrm>
            <a:off x="7086600" y="4876920"/>
            <a:ext cx="205740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entury Gothic"/>
              </a:rPr>
              <a:t>Quantum Mechanical Model Notation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 quantum numbers (n)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designate energy levels of electrons (1,2,3,4,5,6,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lectrons occupy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nergy sublevels,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gions of space defined by a collection of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tomic orbital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are the cloud shapes where electrons can be found; denoted by letters (s, p, d, and 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Electron Configuration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ways in which electrons are arranged around the nuclei of atoms are called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lectron 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ules for ordering electrons in an at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ufbau principle: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lectrons enter orbitals of lowest energy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auli exclusion principle: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an atomic orbital may contain at most two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Hund’s rule: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when electrons occupy orbitals of equal energy, one electron enters each orbital until all the orbitals contain one electron with parallel sp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45720" y="86760"/>
            <a:ext cx="774144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Orbital Filling Diagram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4953240" cy="43354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2819520" y="3886200"/>
            <a:ext cx="29718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743200" y="1676520"/>
            <a:ext cx="2743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572000" y="2438280"/>
            <a:ext cx="10666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5562720" y="48006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askerville Old Face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2"/>
          <a:stretch/>
        </p:blipFill>
        <p:spPr>
          <a:xfrm>
            <a:off x="5562720" y="3886200"/>
            <a:ext cx="2771640" cy="895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6"/>
          <p:cNvSpPr/>
          <p:nvPr/>
        </p:nvSpPr>
        <p:spPr>
          <a:xfrm>
            <a:off x="5252760" y="2514600"/>
            <a:ext cx="35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Fluorine (atomic #9)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5867280" y="43434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 Old Face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6477120" y="4343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 Old Face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7620120" y="4343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 Old Face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5867280" y="32767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askerville Old Face"/>
              </a:rPr>
              <a:t>Orbital Diagram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Electron Configuration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1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s  2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s  3p  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4s  4p  4d  4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5s  5p  5d  5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6s  6p  6d  6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7s  7p  7d  7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914400" y="24382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3" name="Line 6"/>
          <p:cNvSpPr/>
          <p:nvPr/>
        </p:nvSpPr>
        <p:spPr>
          <a:xfrm flipH="1">
            <a:off x="837720" y="26668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4" name="Line 7"/>
          <p:cNvSpPr/>
          <p:nvPr/>
        </p:nvSpPr>
        <p:spPr>
          <a:xfrm flipH="1">
            <a:off x="837720" y="29718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5" name="Line 8"/>
          <p:cNvSpPr/>
          <p:nvPr/>
        </p:nvSpPr>
        <p:spPr>
          <a:xfrm flipH="1">
            <a:off x="838080" y="3200400"/>
            <a:ext cx="14479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6" name="Line 9"/>
          <p:cNvSpPr/>
          <p:nvPr/>
        </p:nvSpPr>
        <p:spPr>
          <a:xfrm flipH="1">
            <a:off x="685440" y="3429000"/>
            <a:ext cx="1981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Electron Configuration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rite electron configurations for these atoms: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hosphoru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ic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hosphoru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p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p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↓↑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↓↑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↓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1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↓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0:53:59Z</dcterms:created>
  <dc:creator>Leanne Vogelsong</dc:creator>
  <dc:description/>
  <dc:language>en-US</dc:language>
  <cp:lastModifiedBy>Dawn</cp:lastModifiedBy>
  <dcterms:modified xsi:type="dcterms:W3CDTF">2011-11-15T03:47:46Z</dcterms:modified>
  <cp:revision>36</cp:revision>
  <dc:subject/>
  <dc:title>Slide 1</dc:title>
</cp:coreProperties>
</file>